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7C0-C5C0-45C7-9863-FFDB673F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BAD-2279-4F0C-920F-1D99E33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D6C-02A5-4E1B-9694-651FC285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82E-E404-4289-8BED-5FC75656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A07-4A87-43AE-808E-3AEA813B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3FE-1CD6-4C29-8B78-711EE054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B47-7098-4920-BFD5-4CFC7E1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829-22D5-4BA4-B3D6-53277B3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A5F-E586-4AEC-8CDF-4C02888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71B-2D9A-460E-B6CF-587785D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E31-7D7D-4BEF-9C78-4293F95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8B4-3024-4A55-A4CA-6646331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876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Formation and Evolution 6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B88-C17F-4E87-A231-27DB04D8E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400" cy="1197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67680" y="0"/>
            <a:ext cx="97632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797360"/>
            <a:ext cx="4969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v Of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Dreizler, Guillem Ang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ttinge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 independent planet search in 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Kep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2602080" cy="321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21400" y="3645000"/>
            <a:ext cx="262260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360" y="2031840"/>
            <a:ext cx="8913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thing new under the Sun” – but t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 many other su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9218 -0.6856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-0.09097 -0.68565 E">
                                      <p:cBhvr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0232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5640" y="2637000"/>
            <a:ext cx="5040360" cy="3024000"/>
          </a:xfrm>
          <a:custGeom>
            <a:avLst/>
            <a:gdLst/>
            <a:ahLst/>
            <a:rect l="l" t="t" r="r" b="b"/>
            <a:pathLst>
              <a:path w="3175" h="1905">
                <a:moveTo>
                  <a:pt x="0" y="1905"/>
                </a:moveTo>
                <a:lnTo>
                  <a:pt x="0" y="1724"/>
                </a:lnTo>
                <a:lnTo>
                  <a:pt x="46" y="1361"/>
                </a:lnTo>
                <a:lnTo>
                  <a:pt x="91" y="1134"/>
                </a:lnTo>
                <a:lnTo>
                  <a:pt x="182" y="907"/>
                </a:lnTo>
                <a:lnTo>
                  <a:pt x="363" y="680"/>
                </a:lnTo>
                <a:lnTo>
                  <a:pt x="635" y="544"/>
                </a:lnTo>
                <a:lnTo>
                  <a:pt x="953" y="408"/>
                </a:lnTo>
                <a:lnTo>
                  <a:pt x="1497" y="272"/>
                </a:lnTo>
                <a:lnTo>
                  <a:pt x="1951" y="181"/>
                </a:lnTo>
                <a:lnTo>
                  <a:pt x="2495" y="91"/>
                </a:lnTo>
                <a:lnTo>
                  <a:pt x="3175" y="0"/>
                </a:lnTo>
                <a:lnTo>
                  <a:pt x="3175" y="190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349360"/>
            <a:ext cx="5040360" cy="129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5040360" cy="144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720" y="36417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s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906624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li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ensitivities and biases: candidate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well with PDC-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a number of interest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 validation scheme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ith several parts: to be contin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success of the Kepler mission, parallel analysi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m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762440" cy="36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2480" y="371628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2205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64320" y="2276640"/>
            <a:ext cx="679680" cy="83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2349360"/>
            <a:ext cx="831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986040" cy="120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7164360" y="2637000"/>
            <a:ext cx="1133640" cy="13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54840" y="2852640"/>
            <a:ext cx="1289160" cy="157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732720" y="2997360"/>
            <a:ext cx="1439640" cy="17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516720" y="3213000"/>
            <a:ext cx="159048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227640" y="3429000"/>
            <a:ext cx="174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6012000" y="3716280"/>
            <a:ext cx="18921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32480" y="3257640"/>
            <a:ext cx="2711160" cy="3600000"/>
            <a:chOff x="6432480" y="3257640"/>
            <a:chExt cx="2711160" cy="3600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574120" y="3257640"/>
              <a:ext cx="569520" cy="6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420400" y="3330360"/>
              <a:ext cx="7182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191440" y="3403800"/>
              <a:ext cx="8985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961760" y="3551400"/>
              <a:ext cx="106200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732440" y="3699360"/>
              <a:ext cx="119196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427160" y="3846960"/>
              <a:ext cx="1384200" cy="16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7197840" y="3994920"/>
              <a:ext cx="154764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6968880" y="4215600"/>
              <a:ext cx="1670760" cy="19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6661800" y="4362120"/>
              <a:ext cx="1873080" cy="22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6432480" y="4510080"/>
              <a:ext cx="198972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dependent searches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ndependent sear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hould be 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2520" y="2924280"/>
            <a:ext cx="8184240" cy="706680"/>
            <a:chOff x="542520" y="2924280"/>
            <a:chExt cx="8184240" cy="706680"/>
          </a:xfrm>
        </p:grpSpPr>
        <p:sp>
          <p:nvSpPr>
            <p:cNvPr id="55" name=""/>
            <p:cNvSpPr/>
            <p:nvPr/>
          </p:nvSpPr>
          <p:spPr>
            <a:xfrm>
              <a:off x="542520" y="292428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40320" y="292716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1960" y="29271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29320" y="29271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3040" y="29271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5892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400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39751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5760" y="4005360"/>
            <a:ext cx="8184240" cy="2431080"/>
            <a:chOff x="545760" y="4005360"/>
            <a:chExt cx="8184240" cy="2431080"/>
          </a:xfrm>
        </p:grpSpPr>
        <p:sp>
          <p:nvSpPr>
            <p:cNvPr id="66" name=""/>
            <p:cNvSpPr/>
            <p:nvPr/>
          </p:nvSpPr>
          <p:spPr>
            <a:xfrm>
              <a:off x="545760" y="485640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3560" y="485928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15200" y="40053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2560" y="40053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6280" y="40053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216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88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5160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724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840" y="486900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22840" y="486900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6920" y="486900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1880" y="518184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7880" y="5181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5840" y="573264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2840" y="573264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6920" y="573264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41880" y="60451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7880" y="6045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9880" y="4355640"/>
              <a:ext cx="50472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79880" y="5148360"/>
              <a:ext cx="57636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58000" y="1268280"/>
            <a:ext cx="3186000" cy="274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3994200"/>
            <a:ext cx="3095640" cy="26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989520"/>
            <a:ext cx="3043080" cy="270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924520" y="3994200"/>
            <a:ext cx="321948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5400720" cy="1627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84760" y="2344680"/>
            <a:ext cx="5259240" cy="38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5281560" cy="26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3557520" cy="293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238720" cy="340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924360" y="5229360"/>
            <a:ext cx="5229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7028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arly, half-manual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Net search (Hua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12, in parallel with this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d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S de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arch using B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ignal tests (e.g. “half-half”, long-term fil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lanet fit: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tiv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t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srem. Does what it names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CoRoT, applied to Kepler unchanged, significant optimization for Kepler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-processed all Q0-Q6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statistics: Detection Power=sqrt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S-searched KOIs ONLY (&lt;1% of the dat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new signals detected in 64 systems. No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, by definition, in multipl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435: only the sec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candid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277: 6:7 period commensurability, anti-correlated TTVs, (=Kepler-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s 719 and 1574: small candidates in the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11 KOIs as EBs using photometry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-17640"/>
            <a:ext cx="828036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184400"/>
            <a:ext cx="6804000" cy="567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77800" y="2781360"/>
            <a:ext cx="1003680" cy="3392280"/>
            <a:chOff x="3277800" y="2781360"/>
            <a:chExt cx="1003680" cy="3392280"/>
          </a:xfrm>
        </p:grpSpPr>
        <p:sp>
          <p:nvSpPr>
            <p:cNvPr id="111" name=""/>
            <p:cNvSpPr/>
            <p:nvPr/>
          </p:nvSpPr>
          <p:spPr>
            <a:xfrm>
              <a:off x="3444840" y="292428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1360" y="5078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1800" y="27813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800" y="58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0p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4680" y="119700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Kepler planet candidat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1557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lh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201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52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C)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35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84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sig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.25hr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61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by, high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dw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71640" y="3506760"/>
            <a:ext cx="6372360" cy="337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95640" y="63752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07000" y="233208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1.66667E-006 -0.35047 E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20:17:57Z</dcterms:created>
  <dc:creator>Michaela</dc:creator>
  <dc:description/>
  <dc:language>en-US</dc:language>
  <cp:lastModifiedBy>avivofir</cp:lastModifiedBy>
  <dcterms:modified xsi:type="dcterms:W3CDTF">2012-08-31T20:43:32Z</dcterms:modified>
  <cp:revision>37</cp:revision>
  <dc:subject/>
  <dc:title>An independent planet search in the Kepler data</dc:title>
</cp:coreProperties>
</file>